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3.jpeg" ContentType="image/jpeg"/>
  <Override PartName="/ppt/media/image12.png" ContentType="image/png"/>
  <Override PartName="/ppt/media/image26.png" ContentType="image/png"/>
  <Override PartName="/ppt/media/image17.jpeg" ContentType="image/jpeg"/>
  <Override PartName="/ppt/media/image3.png" ContentType="image/png"/>
  <Override PartName="/ppt/media/image38.jpeg" ContentType="image/jpeg"/>
  <Override PartName="/ppt/media/image11.jpeg" ContentType="image/jpeg"/>
  <Override PartName="/ppt/media/image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30.png" ContentType="image/png"/>
  <Override PartName="/ppt/media/image3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45.png" ContentType="image/png"/>
  <Override PartName="/ppt/media/image6.jpeg" ContentType="image/jpeg"/>
  <Override PartName="/ppt/media/image27.jpeg" ContentType="image/jpeg"/>
  <Override PartName="/ppt/media/image36.png" ContentType="image/png"/>
  <Override PartName="/ppt/media/image32.jpeg" ContentType="image/jpeg"/>
  <Override PartName="/ppt/media/image5.jpeg" ContentType="image/jpeg"/>
  <Override PartName="/ppt/media/image43.jpeg" ContentType="image/jpeg"/>
  <Override PartName="/ppt/media/image40.jpeg" ContentType="image/jpeg"/>
  <Override PartName="/ppt/media/image44.png" ContentType="image/png"/>
  <Override PartName="/ppt/media/image13.jpeg" ContentType="image/jpeg"/>
  <Override PartName="/ppt/media/image20.jpeg" ContentType="image/jpeg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858000" cy="9144000"/>
  <p:custShowLst>
    <p:custShow name="Pokaz niestandardowy 1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4008-CFBE-47F3-9D1C-9B75FFACD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6D582-89C5-4FE0-ADF3-DAF5F84C2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F3D8-A16C-4DE0-93D6-A0E6CB3E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16B4-ED93-45C0-A408-1502973B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8DB4-C429-4783-89C9-8D57001CA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2056D-1AD8-411B-9EE6-D8C6799D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B651-575E-43EE-9AF4-EECC835C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D50-F89A-410A-BA80-38EF15B9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D6F6-B6C1-44D5-86FF-F3A9E305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85B0-4422-4607-8978-9DD0BC46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4153-DA5E-4B5D-B0E1-271393E2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72D9-6D54-4E91-96FC-F880E0E4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BE1D0-348B-4261-85D3-48584D7995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image" Target="../media/image25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609480"/>
            <a:ext cx="7925040" cy="11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STYTUT BUDOWNICTWA MECHANIZACJI I ELEKTRYFIKACJI ROLNICTW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 CE"/>
              </a:rPr>
              <a:t>GÓRSKIE CENTRUM BADAŃ I WDROŻEŃ W TYLICZU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895480"/>
            <a:ext cx="8433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ROZWIĄZYWANIE PROBLEMÓW ŚCIEKÓW    W GOSPODARSTWACH ROLNICZYCH                           W  ZABUDOWIE ROZPROSZONEJ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49528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zej Juchersk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rzej Walczowski</a:t>
            </a:r>
            <a:r>
              <a:rPr b="0" lang="pl-PL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24000" y="260280"/>
          <a:ext cx="84600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260280"/>
                    <a:ext cx="84600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3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3700"/>
                            </p:stCondLst>
                            <p:childTnLst>
                              <p:par>
                                <p:cTn id="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420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052280"/>
            <a:ext cx="77724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Złożone procesy oczyszczania ścieków przebiegają tu w trakcie wielokierunkowej filtracji w mineralnych ośrodkach porowatych, w różnorodnych, odpowiednio skonfigurowanych złożach gruntowo-roślinnych, charakteryzujących się, m. innymi, szczególnie pożądaną w warunkach wiejskich bezwładnością technologiczną.</a:t>
            </a:r>
            <a:br>
              <a:rPr sz="2800"/>
            </a:b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914400"/>
            <a:ext cx="8763120" cy="34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  <a:ea typeface="Arial"/>
              </a:rPr>
              <a:t>Koncepcja IBMER w Tyliczu przewiduje pełne III-stopniowe usuwanie zanieczyszczeń ze ścieków (Szpindor, 1992), przy dodatkowo znaczącym udziale stopnia IV (odnowa wody), z rolniczym zagospodarowaniem wybieranych okresowo osadów na miejscu ich powstawania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5600" y="333360"/>
            <a:ext cx="82040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Arial"/>
              </a:rPr>
              <a:t>Konfiguracja oczyszczalni ścieków typu IBMER w Tyliczu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0" y="260280"/>
          <a:ext cx="744480" cy="105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260280"/>
                    <a:ext cx="7444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0" name="" descr=""/>
          <p:cNvPicPr/>
          <p:nvPr/>
        </p:nvPicPr>
        <p:blipFill>
          <a:blip r:embed="rId4"/>
          <a:stretch/>
        </p:blipFill>
        <p:spPr>
          <a:xfrm>
            <a:off x="1187280" y="968400"/>
            <a:ext cx="6193080" cy="1789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1187280" y="2781360"/>
            <a:ext cx="6193080" cy="1898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6"/>
          <a:stretch/>
        </p:blipFill>
        <p:spPr>
          <a:xfrm>
            <a:off x="1187280" y="4719600"/>
            <a:ext cx="6480360" cy="187812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indefinite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403280" y="1916280"/>
            <a:ext cx="648036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Osadnik przepływow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457200" y="1447920"/>
            <a:ext cx="815328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Wstępne (mechaniczne) procesy oczyszczania przebiegają w wielokomorowych osadnikach przepływowych, przy czym względy ekonomiczne oraz preferowany przez IBMER gospodarczy system ich budowania, uzasadnia wybór gotowych betonowych kręgów studziennych, szczelnie łączonych i starannie zakonserwowany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990720" y="1004760"/>
            <a:ext cx="7467480" cy="56008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42640" y="533520"/>
            <a:ext cx="7086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OSADNIK PRZEPŁYWOWY Z KRĘGÓW BETONOWYC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260280"/>
          <a:ext cx="693720" cy="98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9280" y="260280"/>
                    <a:ext cx="6937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33520" y="266760"/>
            <a:ext cx="4762440" cy="30099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4762440" cy="3009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562720" y="5333760"/>
            <a:ext cx="320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 CE"/>
              </a:rPr>
              <a:t>ZAGOSPODAROWANIE OSADÓW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403280" y="1916280"/>
            <a:ext cx="648036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Złoża o przepływie pionowym ściekó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04920" y="914400"/>
            <a:ext cx="8381880" cy="46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006600"/>
                </a:solidFill>
                <a:latin typeface="Arial"/>
                <a:ea typeface="Arial"/>
              </a:rPr>
              <a:t>Złoża o przepływie pionowym</a:t>
            </a:r>
            <a:r>
              <a:rPr b="0" lang="pl-PL" sz="27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0" lang="pl-PL" sz="2700" spc="-1" strike="noStrike">
                <a:solidFill>
                  <a:srgbClr val="006600"/>
                </a:solidFill>
                <a:latin typeface="Arial"/>
                <a:ea typeface="Arial"/>
              </a:rPr>
              <a:t> dzięki zastosowaniu specjalnego, deszczownianego sposobu zadawania porcji ścieków na powierzchnię złoża, wielowarstwowej struktur</a:t>
            </a:r>
            <a:r>
              <a:rPr b="0" lang="pl-PL" sz="2700" spc="-1" strike="noStrike">
                <a:solidFill>
                  <a:srgbClr val="006600"/>
                </a:solidFill>
                <a:latin typeface="Arial"/>
              </a:rPr>
              <a:t>ze</a:t>
            </a:r>
            <a:r>
              <a:rPr b="0" lang="pl-PL" sz="2700" spc="-1" strike="noStrike">
                <a:solidFill>
                  <a:srgbClr val="006600"/>
                </a:solidFill>
                <a:latin typeface="Arial"/>
                <a:ea typeface="Arial"/>
              </a:rPr>
              <a:t> jego wypełnienia, a także zastosowaniu transparentnych zadaszeń, spełniających rolę kolektorów słonecznych, pozwalają osiągać znaczące sprawności mineralizacji zanieczyszczeń typu węglowego (ponad   80 % BZT</a:t>
            </a:r>
            <a:r>
              <a:rPr b="0" lang="pl-PL" sz="2700" spc="-1" strike="noStrike" baseline="-30000">
                <a:solidFill>
                  <a:srgbClr val="006600"/>
                </a:solidFill>
                <a:latin typeface="Arial"/>
                <a:ea typeface="Arial"/>
              </a:rPr>
              <a:t>5</a:t>
            </a:r>
            <a:r>
              <a:rPr b="0" lang="pl-PL" sz="2700" spc="-1" strike="noStrike">
                <a:solidFill>
                  <a:srgbClr val="006600"/>
                </a:solidFill>
                <a:latin typeface="Arial"/>
                <a:ea typeface="Arial"/>
              </a:rPr>
              <a:t> i ponad 75 % ChZT), ponad</a:t>
            </a:r>
            <a:r>
              <a:rPr b="0" lang="pl-PL" sz="2700" spc="-1" strike="noStrike">
                <a:solidFill>
                  <a:srgbClr val="006600"/>
                </a:solidFill>
                <a:latin typeface="Arial"/>
              </a:rPr>
              <a:t>  </a:t>
            </a:r>
            <a:r>
              <a:rPr b="0" lang="pl-PL" sz="2700" spc="-1" strike="noStrike">
                <a:solidFill>
                  <a:srgbClr val="006600"/>
                </a:solidFill>
                <a:latin typeface="Arial"/>
                <a:ea typeface="Arial"/>
              </a:rPr>
              <a:t> 65 %-towe zatrzymanie zawiesin, a także ponad </a:t>
            </a:r>
            <a:r>
              <a:rPr b="0" lang="pl-PL" sz="2700" spc="-1" strike="noStrike">
                <a:solidFill>
                  <a:srgbClr val="006600"/>
                </a:solidFill>
                <a:latin typeface="Arial"/>
              </a:rPr>
              <a:t>        </a:t>
            </a:r>
            <a:r>
              <a:rPr b="0" lang="pl-PL" sz="2700" spc="-1" strike="noStrike">
                <a:solidFill>
                  <a:srgbClr val="006600"/>
                </a:solidFill>
                <a:latin typeface="Arial"/>
                <a:ea typeface="Arial"/>
              </a:rPr>
              <a:t> 50 %-tową nitryfikację jonów amonowych.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324000" y="476280"/>
          <a:ext cx="693720" cy="981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476280"/>
                    <a:ext cx="6937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1114560" y="1122480"/>
            <a:ext cx="7561080" cy="51148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1619280" y="333360"/>
            <a:ext cx="662472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łoże o przepływie pionowym ściekó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1268280"/>
            <a:ext cx="8839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Specyfika przestrzennej organizacji siedlisk ludzkich na terenach wiejskich Polski generalnie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 nie sprzyja realizacji spójnych programów wodno-kanalizacyjnych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00"/>
                </a:solidFill>
                <a:latin typeface="Arial"/>
                <a:ea typeface="Arial"/>
              </a:rPr>
              <a:t>Utrwala to bezkarne, niezgodne z obowiązującymi przepisami, zwyczaje odprowadzania (usuwania) ścieków, w sposób zagrażający lokalnym ekosystemom, a przez to ludzkiemu zdrowiu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380880"/>
            <a:ext cx="6181560" cy="46404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029200" y="3505320"/>
            <a:ext cx="3505320" cy="2627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028840"/>
            <a:ext cx="426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Układ tryskaczy złoża o pionowym przepływie ściekó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16000" y="522900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łoże o przepływie pionowym ściekó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765000"/>
            <a:ext cx="6121440" cy="40989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5219640" y="4149720"/>
            <a:ext cx="3311640" cy="22147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graphicFrame>
        <p:nvGraphicFramePr>
          <p:cNvPr id="94" name=""/>
          <p:cNvGraphicFramePr/>
          <p:nvPr/>
        </p:nvGraphicFramePr>
        <p:xfrm>
          <a:off x="7740720" y="549360"/>
          <a:ext cx="693720" cy="9810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740720" y="549360"/>
                    <a:ext cx="693720" cy="98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1049400"/>
            <a:ext cx="2876400" cy="2163600"/>
          </a:xfrm>
          <a:prstGeom prst="rect">
            <a:avLst/>
          </a:prstGeom>
          <a:ln w="12600">
            <a:solidFill>
              <a:srgbClr val="9933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203640" y="1052640"/>
            <a:ext cx="2876400" cy="2124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6156360" y="1052640"/>
            <a:ext cx="2882880" cy="20890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249120" y="3500280"/>
            <a:ext cx="2882880" cy="2159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3203640" y="3500280"/>
            <a:ext cx="2882880" cy="216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01" name=""/>
          <p:cNvSpPr/>
          <p:nvPr/>
        </p:nvSpPr>
        <p:spPr>
          <a:xfrm>
            <a:off x="163800" y="189000"/>
            <a:ext cx="857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Etapy wykonania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keramzytowego złoża o pionowym przepływie ściekó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7"/>
          <a:stretch/>
        </p:blipFill>
        <p:spPr>
          <a:xfrm>
            <a:off x="6156360" y="3500280"/>
            <a:ext cx="2879640" cy="21607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p:transition advTm="0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403280" y="1916280"/>
            <a:ext cx="648036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Złoża o przepływie poziomym ściekó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685800"/>
            <a:ext cx="79689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  <a:ea typeface="Arial"/>
              </a:rPr>
              <a:t>Proponowane przez IBMER rozwiązania złóż gruntowo-roślinnych o poziomym przepływie ścieków są adaptacją podobnych obiektów do oczyszczania ścieków typu bagiennego, zwanych w nomenklaturze zagranicznej</a:t>
            </a: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,</a:t>
            </a:r>
            <a:r>
              <a:rPr b="0" lang="pl-PL" sz="2800" spc="-1" strike="noStrike">
                <a:solidFill>
                  <a:srgbClr val="006600"/>
                </a:solidFill>
                <a:latin typeface="Arial"/>
                <a:ea typeface="Arial"/>
              </a:rPr>
              <a:t> jako constructed wetla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  <a:ea typeface="Arial"/>
              </a:rPr>
              <a:t>W odróżnieniu od złóż o pionowym przepływie ścieków, w których dominują procesy mineralizacji tlenowej, złoża filtracyjne o przepływie poziomym  są typowym reaktorem przemian beztlenowych</a:t>
            </a: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685800" y="246240"/>
            <a:ext cx="7391520" cy="57178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562720"/>
            <a:ext cx="73915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CE"/>
              </a:rPr>
              <a:t>ZŁOŻE ROŚLINNO GRUNTOWE O POZIOMYM PRZEPŁYWIE ŚCIEKÓ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44360" y="260280"/>
            <a:ext cx="8820360" cy="589752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611280" y="6165720"/>
            <a:ext cx="8064360" cy="47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0000"/>
                </a:solidFill>
                <a:latin typeface="Arial CE"/>
              </a:rPr>
              <a:t>Oczyszczalnia w Muszynce gm. Krynica-Zdrój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24000" y="351000"/>
            <a:ext cx="7777080" cy="52052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5003640" y="4581360"/>
            <a:ext cx="3810240" cy="1986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042920" y="5661000"/>
            <a:ext cx="273708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E"/>
              </a:rPr>
              <a:t>Oczyszczalnia w Roztoce gm. Gródek n. Dunajc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835280" y="1916280"/>
            <a:ext cx="547344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0000"/>
                </a:solidFill>
                <a:latin typeface="Times New Roman"/>
              </a:rPr>
              <a:t>Stokowe złoża trawiasto glebowe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152280"/>
            <a:ext cx="8229600" cy="65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6600"/>
                </a:solidFill>
                <a:latin typeface="Arial"/>
                <a:ea typeface="Arial"/>
              </a:rPr>
              <a:t>Stokowe złoża trawiasto-glebowe to oryginalny pomysł IBMER w Tyliczu w postaci bardzo skutecznych i jednocześnie estetycznych roślinnych pasów, przy których budowie wykorzystuje się naturalną konfigurację spadków terenowych, a poprzez specjalne wyprofilowanie ich dna i dobór mieszanki wypełnienia uzyskuje się pożądaną prędkość filtracji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6600"/>
                </a:solidFill>
                <a:latin typeface="Arial"/>
                <a:ea typeface="Arial"/>
              </a:rPr>
              <a:t>W układach instalacji </a:t>
            </a:r>
            <a:r>
              <a:rPr b="0" lang="pl-PL" sz="2200" spc="-1" strike="noStrike">
                <a:solidFill>
                  <a:srgbClr val="006600"/>
                </a:solidFill>
                <a:latin typeface="Arial"/>
              </a:rPr>
              <a:t>oczyszczających </a:t>
            </a:r>
            <a:r>
              <a:rPr b="0" lang="pl-PL" sz="2200" spc="-1" strike="noStrike">
                <a:solidFill>
                  <a:srgbClr val="006600"/>
                </a:solidFill>
                <a:latin typeface="Arial"/>
                <a:ea typeface="Arial"/>
              </a:rPr>
              <a:t>są one bardzo skutecznym reaktorem w procesach mineralizacji substancji węglowych, zwiększając sprawność zmniejsz</a:t>
            </a:r>
            <a:r>
              <a:rPr b="0" lang="pl-PL" sz="2200" spc="-1" strike="noStrike">
                <a:solidFill>
                  <a:srgbClr val="006600"/>
                </a:solidFill>
                <a:latin typeface="Arial"/>
              </a:rPr>
              <a:t>a</a:t>
            </a:r>
            <a:r>
              <a:rPr b="0" lang="pl-PL" sz="2200" spc="-1" strike="noStrike">
                <a:solidFill>
                  <a:srgbClr val="006600"/>
                </a:solidFill>
                <a:latin typeface="Arial"/>
                <a:ea typeface="Arial"/>
              </a:rPr>
              <a:t>nia wskaźników tlenowych zanieczyszczeń określonych </a:t>
            </a:r>
            <a:r>
              <a:rPr b="0" lang="pl-PL" sz="2200" spc="-1" strike="noStrike">
                <a:solidFill>
                  <a:srgbClr val="006600"/>
                </a:solidFill>
                <a:latin typeface="Arial"/>
              </a:rPr>
              <a:t>przez </a:t>
            </a:r>
            <a:r>
              <a:rPr b="0" lang="pl-PL" sz="2200" spc="-1" strike="noStrike">
                <a:solidFill>
                  <a:srgbClr val="006600"/>
                </a:solidFill>
                <a:latin typeface="Arial"/>
                <a:ea typeface="Arial"/>
              </a:rPr>
              <a:t>BZT</a:t>
            </a:r>
            <a:r>
              <a:rPr b="0" lang="pl-PL" sz="2200" spc="-1" strike="noStrike" baseline="-30000">
                <a:solidFill>
                  <a:srgbClr val="006600"/>
                </a:solidFill>
                <a:latin typeface="Arial"/>
                <a:ea typeface="Arial"/>
              </a:rPr>
              <a:t>5 </a:t>
            </a:r>
            <a:r>
              <a:rPr b="0" lang="pl-PL" sz="2200" spc="-1" strike="noStrike">
                <a:solidFill>
                  <a:srgbClr val="006600"/>
                </a:solidFill>
                <a:latin typeface="Arial"/>
                <a:ea typeface="Arial"/>
              </a:rPr>
              <a:t>do ponad 95 % i do ponad 85 % w przypadku ChZT, zarówno w okresach letnich jak i zimowych. Złoża te mają znaczący wpływ na intensyfikację procesów nitryfikacji do poziomu 93 – 99 %, niezależnie od pory roku, i zapewniają w oczyszczalni wysoką wydajność usuwania azotu całkowitego dochodzącą do 96 % - w warunkach letnich i 54 % - w warunkach zimowych, gdy temperatura oczyszczanych ścieków spada </a:t>
            </a:r>
            <a:r>
              <a:rPr b="0" lang="pl-PL" sz="2200" spc="-1" strike="noStrike">
                <a:solidFill>
                  <a:srgbClr val="006600"/>
                </a:solidFill>
                <a:latin typeface="Arial"/>
              </a:rPr>
              <a:t>nawet</a:t>
            </a:r>
            <a:r>
              <a:rPr b="0" lang="pl-PL" sz="2200" spc="-1" strike="noStrike">
                <a:solidFill>
                  <a:srgbClr val="006600"/>
                </a:solidFill>
                <a:latin typeface="Arial"/>
                <a:ea typeface="Arial"/>
              </a:rPr>
              <a:t> poniżej 3</a:t>
            </a:r>
            <a:r>
              <a:rPr b="0" lang="pl-PL" sz="2200" spc="-1" strike="noStrike" baseline="30000">
                <a:solidFill>
                  <a:srgbClr val="006600"/>
                </a:solidFill>
                <a:latin typeface="Arial"/>
                <a:ea typeface="Arial"/>
              </a:rPr>
              <a:t>0</a:t>
            </a:r>
            <a:r>
              <a:rPr b="0" lang="pl-PL" sz="2200" spc="-1" strike="noStrike">
                <a:solidFill>
                  <a:srgbClr val="006600"/>
                </a:solidFill>
                <a:latin typeface="Arial"/>
                <a:ea typeface="Arial"/>
              </a:rPr>
              <a:t>C</a:t>
            </a:r>
            <a:r>
              <a:rPr b="0" lang="pl-PL" sz="22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" y="228600"/>
            <a:ext cx="4317840" cy="30020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28600" y="3429000"/>
            <a:ext cx="4317840" cy="3022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6324480"/>
            <a:ext cx="8686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ZAGROŻENIA DLA ŚRODOWISKA NATURALNEGO WYNIKAJĄCE Z DZIAŁALNOŚCI GOSPODARSTW ROLNYCH</a:t>
            </a:r>
            <a:endParaRPr b="0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4648320" y="3429000"/>
            <a:ext cx="4317840" cy="3022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4648320" y="228600"/>
            <a:ext cx="4317840" cy="30225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advTm="0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57200" y="609480"/>
            <a:ext cx="8229600" cy="48834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51055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CE"/>
              </a:rPr>
              <a:t>STOKOWE ZŁOŻE ROŚLINNO-GRUNTOWE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233440" y="1714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10920" y="6165720"/>
            <a:ext cx="7848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Stokowe złoża trawiasto-glebowe w IBMER GCB Tylicz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8" name="fot 1 pasy" descr=""/>
          <p:cNvPicPr/>
          <p:nvPr/>
        </p:nvPicPr>
        <p:blipFill>
          <a:blip r:embed="rId2"/>
          <a:stretch/>
        </p:blipFill>
        <p:spPr>
          <a:xfrm>
            <a:off x="396720" y="222120"/>
            <a:ext cx="8352000" cy="589608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advTm="0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6248520"/>
            <a:ext cx="6705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nstalacja w Krynicy- Słotwinach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539640" y="114480"/>
            <a:ext cx="8064720" cy="61434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advTm="0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1916280"/>
            <a:ext cx="648036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ff0000"/>
                </a:solidFill>
                <a:latin typeface="Times New Roman"/>
              </a:rPr>
              <a:t>Zagospodarowanie odcieków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1143000"/>
            <a:ext cx="80769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  <a:ea typeface="Arial"/>
              </a:rPr>
              <a:t>Koncepcja IBMER przewiduje „bezodpływowe„ zagospodarowanie oczyszczonych odcieków poprzez ich rolnicze wykorzystanie w technicznie przystosowanym układzie sorpcyjnym użytku trawiastego (płytkie układy rozsączające), który może być poprzedzony oczkiem wodnym, dodatkowo estetyzującym gospodarstw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4920" y="4680"/>
            <a:ext cx="9109080" cy="683280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</p:spTree>
  </p:cSld>
  <p:transition advTm="0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448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8381880" cy="45896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 CE"/>
              </a:rPr>
              <a:t>PRZYKŁAD UKŁADU DYSTRYBUCYJNO-ROZSĄCZAJACEGO DO ODBIORU I KOŃCOWEGO DOCZYSZCZANIA ODCIEKÓW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19280" y="5877000"/>
            <a:ext cx="624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0000"/>
                </a:solidFill>
                <a:latin typeface="Times New Roman"/>
              </a:rPr>
              <a:t>Instalacja w Muszynce gm. Krynica Zdrój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4876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0" name=""/>
          <p:cNvGraphicFramePr/>
          <p:nvPr/>
        </p:nvGraphicFramePr>
        <p:xfrm>
          <a:off x="250920" y="5805360"/>
          <a:ext cx="541080" cy="7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5805360"/>
                    <a:ext cx="54108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609480"/>
            <a:ext cx="830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  <a:ea typeface="Arial"/>
              </a:rPr>
              <a:t>Ogromny zakres potrzeb w sanitacji wsi polskiej i wynikające z tego problemy ekonomiczne, techniczno-funkcjonalne, jak również ekologiczne sprawiają, że wielkoobszarowe kanalizacje zbiorcze z tzw. centralnymi oczyszczalniami ścieków (typu miejskiego) nie mogą być w warunkach wsi polskiej nadal powszechnie obowiązującą regułą, chociaż te właśnie systemy uznane są - z wielu bardzo istotnych względów - za najbardziej skuteczne w ochronie środowiska przyrodniczeg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125280"/>
            <a:ext cx="9144000" cy="648180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95280" y="260280"/>
            <a:ext cx="5832360" cy="39038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211640" y="3573360"/>
            <a:ext cx="4427640" cy="296244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35" name=""/>
          <p:cNvSpPr/>
          <p:nvPr/>
        </p:nvSpPr>
        <p:spPr>
          <a:xfrm>
            <a:off x="684360" y="5516640"/>
            <a:ext cx="273672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E"/>
              </a:rPr>
              <a:t>Oczyszczalnia w Roztoce gm. Gródek n. Dunajce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7812000" y="333360"/>
          <a:ext cx="744480" cy="105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812000" y="333360"/>
                    <a:ext cx="744480" cy="10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out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611280" y="108000"/>
            <a:ext cx="7993080" cy="5994360"/>
          </a:xfrm>
          <a:prstGeom prst="rect">
            <a:avLst/>
          </a:prstGeom>
          <a:ln w="9360">
            <a:solidFill>
              <a:srgbClr val="8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1187280" y="6165720"/>
            <a:ext cx="624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Instalacja w IBMER GCB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57200" y="228600"/>
            <a:ext cx="8381880" cy="6161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81840" y="6095880"/>
            <a:ext cx="812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CE"/>
              </a:rPr>
              <a:t>Rośliny wykorzystywane do nasadzeń na złożach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539640" y="404640"/>
          <a:ext cx="541440" cy="765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404640"/>
                    <a:ext cx="541440" cy="76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4560" y="6286680"/>
            <a:ext cx="60948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00"/>
                </a:solidFill>
                <a:latin typeface="Times New Roman"/>
              </a:rPr>
              <a:t>Oczyszczalnia d;la szkół</a:t>
            </a:r>
            <a:endParaRPr b="0" lang="en-US" sz="1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28600" y="476280"/>
            <a:ext cx="8736120" cy="5911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611280" y="647640"/>
          <a:ext cx="642960" cy="909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1280" y="647640"/>
                    <a:ext cx="642960" cy="9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842160" cy="27572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258920" y="3357720"/>
            <a:ext cx="6840360" cy="297000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39640" y="3789360"/>
            <a:ext cx="828216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Arial"/>
                <a:ea typeface="Arial"/>
              </a:rPr>
              <a:t>Za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prezentowane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  <a:ea typeface="Arial"/>
              </a:rPr>
              <a:t>  rozwiązania umożliwiają pełną i całoroczną ochronę środowiska przyrodniczego i są szczególnie przydatne na terenach przyrodniczo cennych</a:t>
            </a:r>
            <a:r>
              <a:rPr b="0" lang="en-US" sz="2600" spc="-1" strike="noStrike">
                <a:solidFill>
                  <a:srgbClr val="006600"/>
                </a:solidFill>
                <a:latin typeface="Arial"/>
              </a:rPr>
              <a:t>, pozbawionych możliwości budowy konwencjonalnych systemów kanalizacyjnych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360" y="333360"/>
            <a:ext cx="845964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600" spc="-1" strike="noStrike">
                <a:solidFill>
                  <a:srgbClr val="006600"/>
                </a:solidFill>
                <a:latin typeface="Arial CE"/>
              </a:rPr>
              <a:t>Prezentowany przez IBMER – GCB w Tyliczu autorski system zagrodowych i lokalnych instalacji oczyszczających ścieki bytowe jest specyficzną, kompleksową i efektywną propozycją wdrożeniową adresowaną do gospodarstw rolniczych, do gospodarstw agroturystycznych i ekologicznych w szczególności, zlokalizowanych na obszarach wiejskich  o zabudowie luźnej i rozproszonej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4360" y="1125360"/>
            <a:ext cx="8208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 CE"/>
              </a:rPr>
              <a:t>Zastosowane rozwiązania techniczne umożliwiają budowę takich instalacji ze znaczącym  udziałem pracy własnej rolników – inwestorów, wykonywanej pod nadzorem,         a zamiar budowy wymaga zgłoszenia do Starostwa i uzyskania zgody na eksploatację   w Gminie.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17360" y="533520"/>
            <a:ext cx="8820360" cy="40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006600"/>
                </a:solidFill>
                <a:latin typeface="Times New Roman"/>
              </a:rPr>
              <a:t>Nasz adre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700" spc="-1" strike="noStrike">
                <a:solidFill>
                  <a:srgbClr val="ff0000"/>
                </a:solidFill>
                <a:latin typeface="Times New Roman"/>
              </a:rPr>
              <a:t>Instytut Budownictwa Mechanizacji i Elektryfikacji Rolnictwa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GÓRSKIE CENTRUM BADAŃ I WDROŻEŃ w Tylicz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33-383 Tylicz, ul. Pułaskiego 25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0000"/>
                </a:solidFill>
                <a:latin typeface="Times New Roman"/>
              </a:rPr>
              <a:t>Tel. (018) 471 13 1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Times New Roman"/>
              </a:rPr>
              <a:t>e-mail:</a:t>
            </a:r>
            <a:r>
              <a:rPr b="0" lang="pl-PL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pl-PL" sz="2800" spc="-1" strike="noStrike">
                <a:solidFill>
                  <a:srgbClr val="0000ff"/>
                </a:solidFill>
                <a:latin typeface="Times New Roman"/>
              </a:rPr>
              <a:t>ibmerkrynica@pro.onet.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ff"/>
                </a:solidFill>
                <a:latin typeface="Times New Roman"/>
              </a:rPr>
              <a:t>www.ibmer.org.p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09480" y="533520"/>
            <a:ext cx="7848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Arial"/>
                <a:ea typeface="Arial"/>
              </a:rPr>
              <a:t>Istnieje więc potrzeba dalszego udoskonalania szczegółowych rozwiązań technologicznych do oczyszczania ścieków w układach lokalnych i indywidualnych, które – poprzez zastosowanie wysokoefektywnych urządzeń wykonawczych i ułatwionych procedur obsługowych – będą w stanie spełnić obowiązujące wymagania również i w trudnych, zasadniczo odmiennych od miejskich, warunkach wiejskiej gospodarki ściekowej</a:t>
            </a:r>
            <a:r>
              <a:rPr b="0" lang="en-US" sz="2800" spc="-1" strike="noStrike">
                <a:solidFill>
                  <a:srgbClr val="006600"/>
                </a:solidFill>
                <a:latin typeface="Arial"/>
              </a:rPr>
              <a:t>, szczególnie na obszarach o zabudowie rozproszonej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04920" y="1295280"/>
            <a:ext cx="8229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6600"/>
                </a:solidFill>
                <a:latin typeface="Arial"/>
                <a:ea typeface="Arial"/>
              </a:rPr>
              <a:t>Wkładem IBMER – GCB w Tyliczu do prac badawczo-rozwojowych dotyczących lokalnych i indywidualnych urządzeń do oczyszczania ścieków jest koncepcja tzw. quasi naturalnych instalacji (nature-like </a:t>
            </a:r>
            <a:r>
              <a:rPr b="0" lang="pl-PL" sz="2800" spc="-1" strike="noStrike">
                <a:solidFill>
                  <a:srgbClr val="006600"/>
                </a:solidFill>
                <a:latin typeface="Arial"/>
              </a:rPr>
              <a:t>systems</a:t>
            </a:r>
            <a:r>
              <a:rPr b="0" lang="pl-PL" sz="2800" spc="-1" strike="noStrike">
                <a:solidFill>
                  <a:srgbClr val="006600"/>
                </a:solidFill>
                <a:latin typeface="Arial"/>
                <a:ea typeface="Arial"/>
              </a:rPr>
              <a:t>), wspomaganych specjalistycznym, technicznym wyposażeniem dozująco-sterujący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990720" y="228600"/>
            <a:ext cx="7162560" cy="64198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952520" y="5105160"/>
            <a:ext cx="312444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E"/>
              </a:rPr>
              <a:t>PRZYKŁAD KOMPLETNEJ KONFIGURACJI URZĄDZEN W CIĄGU TECHNOLOGICZNYM OCZYSZCZANIA ŚCIEKÓW</a:t>
            </a:r>
            <a:endParaRPr b="0" lang="en-US" sz="16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250920" y="404640"/>
          <a:ext cx="641160" cy="9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0920" y="404640"/>
                    <a:ext cx="641160" cy="90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advTm="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79280" y="428760"/>
            <a:ext cx="8893440" cy="6018120"/>
          </a:xfrm>
          <a:prstGeom prst="rect">
            <a:avLst/>
          </a:prstGeom>
          <a:ln w="0">
            <a:noFill/>
          </a:ln>
        </p:spPr>
      </p:pic>
    </p:spTree>
  </p:cSld>
  <p:transition advTm="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50080" y="549360"/>
            <a:ext cx="807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CE"/>
              </a:rPr>
              <a:t>CO TO SĄ TECHNOLOGIE ”DOPASOWANE” I DLACZEGO</a:t>
            </a:r>
            <a:r>
              <a:rPr b="1" lang="en-US" sz="1600" spc="-1" strike="noStrike">
                <a:solidFill>
                  <a:srgbClr val="006600"/>
                </a:solidFill>
                <a:latin typeface="Arial CE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 CE"/>
              </a:rPr>
              <a:t>ICH POTRZEBUJEMY 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052640"/>
            <a:ext cx="2952720" cy="55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 CE"/>
              </a:rPr>
              <a:t>TECHNOLOGICZNE ”DOPASOWANIE”</a:t>
            </a:r>
            <a:r>
              <a:rPr b="1" i="1" lang="en-US" sz="1400" spc="-1" strike="noStrike">
                <a:solidFill>
                  <a:srgbClr val="006600"/>
                </a:solidFill>
                <a:latin typeface="Arial C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>
              <a:lnSpc>
                <a:spcPts val="1998"/>
              </a:lnSpc>
              <a:spcBef>
                <a:spcPts val="814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300" spc="-1" strike="noStrike">
                <a:solidFill>
                  <a:srgbClr val="006600"/>
                </a:solidFill>
                <a:latin typeface="Arial CE"/>
              </a:rPr>
              <a:t>      </a:t>
            </a:r>
            <a:r>
              <a:rPr b="1" i="1" lang="en-US" sz="1300" spc="-1" strike="noStrike">
                <a:solidFill>
                  <a:srgbClr val="006600"/>
                </a:solidFill>
                <a:latin typeface="Arial CE"/>
              </a:rPr>
              <a:t>OZNACZA, ŻE W KAŻDYM POJEDYNCZYM PRZYPADKU NALEŻY SZUKAĆ ROZWIĄZAŃ, KTÓRE UMOŻLIWIĄ :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>
              <a:lnSpc>
                <a:spcPts val="1998"/>
              </a:lnSpc>
              <a:spcBef>
                <a:spcPts val="81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300" spc="-1" strike="noStrike">
                <a:solidFill>
                  <a:srgbClr val="006600"/>
                </a:solidFill>
                <a:latin typeface="Arial CE"/>
              </a:rPr>
              <a:t> </a:t>
            </a:r>
            <a:r>
              <a:rPr b="1" i="1" lang="en-US" sz="1300" spc="-1" strike="noStrike">
                <a:solidFill>
                  <a:srgbClr val="006600"/>
                </a:solidFill>
                <a:latin typeface="Arial CE"/>
              </a:rPr>
              <a:t>ROZWIJANIE EFEKTYWNYCH PROJEKTÓW           ZMIERZAJĄCYCH DO ROZWIĄZYWANIA LOKALNYCH PROBLEMÓW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>
              <a:lnSpc>
                <a:spcPts val="1998"/>
              </a:lnSpc>
              <a:spcBef>
                <a:spcPts val="81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300" spc="-1" strike="noStrike">
                <a:solidFill>
                  <a:srgbClr val="006600"/>
                </a:solidFill>
                <a:latin typeface="Arial CE"/>
              </a:rPr>
              <a:t> </a:t>
            </a:r>
            <a:r>
              <a:rPr b="1" i="1" lang="en-US" sz="1300" spc="-1" strike="noStrike">
                <a:solidFill>
                  <a:srgbClr val="006600"/>
                </a:solidFill>
                <a:latin typeface="Arial CE"/>
              </a:rPr>
              <a:t>OSZCZĘDZANIE PIENIĘDZY MOŻE NIE W FAZIE PLANOWANIA, LECZ W FAZIE INWESTOWANIA, A TAKŻE OSZCZĘDZANIA NA   KOSZTACH BIEŻĄCYCH,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  <a:p>
            <a:pPr marL="262080" indent="-262080">
              <a:lnSpc>
                <a:spcPts val="1998"/>
              </a:lnSpc>
              <a:spcBef>
                <a:spcPts val="814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i="1" lang="en-US" sz="1300" spc="-1" strike="noStrike">
                <a:solidFill>
                  <a:srgbClr val="006600"/>
                </a:solidFill>
                <a:latin typeface="Arial CE"/>
              </a:rPr>
              <a:t> </a:t>
            </a:r>
            <a:r>
              <a:rPr b="1" i="1" lang="en-US" sz="1300" spc="-1" strike="noStrike">
                <a:solidFill>
                  <a:srgbClr val="006600"/>
                </a:solidFill>
                <a:latin typeface="Arial CE"/>
              </a:rPr>
              <a:t>TWORZENIE MIEJSC PRACY W SKALI LOKALNEJ I REGIONALNEJ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08360" cy="43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 CE"/>
              </a:rPr>
              <a:t>”</a:t>
            </a:r>
            <a:r>
              <a:rPr b="1" i="1" lang="en-US" sz="1400" spc="-1" strike="noStrike">
                <a:solidFill>
                  <a:srgbClr val="ff0000"/>
                </a:solidFill>
                <a:latin typeface="Arial CE"/>
              </a:rPr>
              <a:t>DOPASOWANE”  TECHNOLOGIE</a:t>
            </a:r>
            <a:r>
              <a:rPr b="1" i="1" lang="en-US" sz="1400" spc="-1" strike="noStrike">
                <a:solidFill>
                  <a:srgbClr val="006600"/>
                </a:solidFill>
                <a:latin typeface="Arial C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6600"/>
                </a:solidFill>
                <a:latin typeface="Arial CE"/>
              </a:rPr>
              <a:t>OCZYSZCZANIA ŚCIEKÓW NA TERENACH WIEJSKICH NIE POWINNY PREFEROWAĆ ROZWIĄZAŃ  SCENTRALIZOWA- NYCH, KTÓRE SĄ BEZ WĄTPIENIA CELOWE   W DUŻYCH AGLOMERACJACH, NIE SĄ JEDNAK NAJKORZY-STNIEJSZE DO ZASTOSOWANIA NA OBSZARACH WIEJSKICH           O NIEWIELKIEJ GĘSTOŚCI ZALUDNIENIA ZARÓWNO           Z TECHNICZNEGO, JAK               I Z FINANSOWEGO PUNKTU WIDZENIA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84720" y="1052640"/>
            <a:ext cx="2662560" cy="443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0000"/>
                </a:solidFill>
                <a:latin typeface="Arial CE"/>
              </a:rPr>
              <a:t>”</a:t>
            </a:r>
            <a:r>
              <a:rPr b="1" i="1" lang="en-US" sz="1400" spc="-1" strike="noStrike">
                <a:solidFill>
                  <a:srgbClr val="ff0000"/>
                </a:solidFill>
                <a:latin typeface="Arial CE"/>
              </a:rPr>
              <a:t>DOPASOWANE”  TECHNOLOGIE</a:t>
            </a:r>
            <a:r>
              <a:rPr b="1" i="1" lang="en-US" sz="1400" spc="-1" strike="noStrike">
                <a:solidFill>
                  <a:srgbClr val="006600"/>
                </a:solidFill>
                <a:latin typeface="Arial C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ts val="1998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300" spc="-1" strike="noStrike">
                <a:solidFill>
                  <a:srgbClr val="006600"/>
                </a:solidFill>
                <a:latin typeface="Arial CE"/>
              </a:rPr>
              <a:t>OCZYSZCZANIA ŚCIEKÓW NA TERENACH WIEJSKICH NIE POWINNY PREFEROWAĆ ROZWIĄZAŃ SCENTRALIZO- WANYCH, KTÓRE SĄ BEZ WĄTPIENIA CELOWE W DUŻYCH AGLOMERACJACH, NIE SĄ JEDNAK NAJKORZY- STNIEJSZE DO ZASTOSOWA- NIA NA OBSZARACH WIEJSKICH  O NIEWIELKIEJ GĘSTOŚCI ZALUDNIENIA ZARÓWNO Z TECHNICZNEGO, JAK I Z FINANSOWEGO PUNKTU WIDZENIA.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5T06:29:56Z</dcterms:created>
  <dc:creator>IBMER</dc:creator>
  <dc:description/>
  <dc:language>en-US</dc:language>
  <cp:lastModifiedBy>IBMER</cp:lastModifiedBy>
  <dcterms:modified xsi:type="dcterms:W3CDTF">2006-01-17T09:53:21Z</dcterms:modified>
  <cp:revision>87</cp:revision>
  <dc:subject/>
  <dc:title>Prezentacja programu PowerPoint</dc:title>
</cp:coreProperties>
</file>